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4.png" ContentType="image/png"/>
  <Override PartName="/ppt/media/image2.png" ContentType="image/png"/>
  <Override PartName="/ppt/media/image25.png" ContentType="image/png"/>
  <Override PartName="/ppt/media/image27.wmf" ContentType="image/x-wmf"/>
  <Override PartName="/ppt/media/image23.wmf" ContentType="image/x-wmf"/>
  <Override PartName="/ppt/media/image20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4.png" ContentType="image/png"/>
  <Override PartName="/ppt/media/image16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58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9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 type="sldNum" idx="60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04BA-74AF-4654-9E87-9568FECF8600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ángulo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6BF2-9A17-4D80-BBA1-A3A7AEBC120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C81-F854-4BB6-98DE-360677F1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B15-4004-47BB-B3A2-E37B4B4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7310-FDEB-4941-BE88-66B8457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770E3-A888-4D7A-BF13-5302E56D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F431-104E-4890-AA4E-0D41F2B3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2641D-441F-4417-8C64-4B1EF81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DED95-A2D5-42D3-A7F3-2F11166E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91F5C-B239-4B3E-8667-2E92993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7AFDC-A53A-4034-91DC-64A7C54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4F6A2-CFFA-4DC3-90C2-A93B2ECC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7F7FB-9CDD-48FD-B103-99CDEB8B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69920-4C83-4E41-8F0D-EE4772E0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60C-0096-4A33-BCC3-DAF5D074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33F07-F12F-45D2-926A-4E3963DC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EE918-A7F9-4910-A272-7F307E0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6A76F-D4D6-4E0E-8732-B80E1DB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63D52-F941-4377-9AF4-E0B6EA49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D5BBC-CD40-4864-AD24-916DE7CE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AD73A-DED8-49CF-A1FA-35454EE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E90A8-CFC1-49CF-99DB-64EC37D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06762-35EB-43AB-BED9-26A8E14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C9CD1-C113-4F68-BDD9-B2CB305D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28412-DCB3-4E23-A133-C91EF9A9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688-DEE2-491F-8BA6-F512F3DC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0E90D-DD90-478B-8ED6-4F2BB485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F6AD6-C24D-4357-B07B-EF83F253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49EC1-3B67-42F1-BD2A-B49185B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F10CD-7D8F-454C-A49B-3037EE97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BFBBB-09D7-468E-AC12-BC99D9D0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9C432-6B5E-460E-88A8-FBFC8EB6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88D35-4C47-4FB3-BA0A-FE41863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64FB2-CDDF-42FE-BA62-9B88E4E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52C28-EE69-45B4-80EC-F8C0B4F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6AF79-52C6-4177-A1F4-1858739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5F61-AC08-4B6A-84EF-62A3D571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5E9CD-6FF0-4CC9-9748-E6C38EC1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AF69E-02C3-4DAE-B9B8-400A489C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6318B-1088-4202-B449-A9DDF39B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6DCE3-C349-4660-90A5-C083AC45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4010B-0544-4580-8941-1DF5FB71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C0B13-87CD-4F6C-976D-970209B6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36BA5-3A37-4994-B9D2-17875FCA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5268A-22E1-44B9-95DB-966DA9B1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3898C-5710-4087-89E7-B7BAB04B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6B59A-0F07-4676-BD45-6AE492B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3B2-8E2F-4423-88AB-5690F477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05EFF-0D67-4B71-A0ED-EBBE542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8EBE4-1D76-4118-A55C-0BA082E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4484C-5CF4-4F79-944D-EF09A29A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C9A30-5536-4261-A170-92E25B10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0D58A-84E5-486E-8AAA-3FDCA467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46DD8-8A42-4BCC-AB5B-0FC0398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ECEBD-5FE1-421A-B853-CE7EE08B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9F35C-4DB1-4754-943A-351C205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41B3B-4AA8-4A4A-8A3F-09DBB51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95EE8-895F-4C07-8EA0-3C6D657C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0B1-67A7-44F9-8D92-380FE686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3BFC5-D7FA-4DFB-BC8B-EA79C80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80507-05B3-48E0-B69A-C4D205B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5AC7D-B74D-4A42-94B9-CE35AFD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A4500-91DA-4773-B50E-7460BD4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F129A-1B1F-4E82-A643-B891FC18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290D0-A2D9-4202-AA42-54D1C712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DBE5F-3487-4ACC-B238-F80674A7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473AB-ABAC-4CD6-B995-5A341E1F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ECFC7-9D4B-4EBB-B4D1-ABC87107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678CF-C5B5-4542-8FD3-F4376A22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BBE9-6B9C-4BE3-A02A-79245FB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83ED1-1165-476A-B68A-5922CCBB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5C8CB-9EE0-4EEF-B9DA-51D7951F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57C57-7963-4DBB-A346-54483D37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AE660-35CB-4591-AEC8-5D14492E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786AF-B94C-45CA-9A3B-DC8464DF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6BA34-5AFA-4F1A-8AA3-92EEF08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1EF46-5C8D-42C4-9985-77043660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CBD51-83FC-440B-9B28-3A69DB78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FAC49-E55C-4235-933B-D18CCAEF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452B5-2E1F-4D87-B1F4-31EAD1AC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F6BF-D1F1-49AC-9B35-9517F28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C7481F-BAA6-405F-9DC6-2DFBA85F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5198A-B465-4FD5-BA97-BDE2284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DF85D6-3A16-434F-92EA-B8A2FD7E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9C44B-88C1-499C-B797-BF95A7B1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A537A-A055-4A48-A389-B326A721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61725-D619-43B2-8419-30819594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F6521-D2E0-49AE-A677-4A0462A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FC1FD-5BEC-40BE-B229-0DD3BC4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82855-E69F-4A9F-980D-3AEF658E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DBFDE-9C62-4242-9C65-EDC1842F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D19F-584D-470E-8CB5-E173FB14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F9379-0489-4A28-A07E-04B1A0C1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E731B-F3E6-4D2E-A0C6-3E2E86C2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ACAF0-E82A-410B-9E7E-06F485E0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36FF2-E60F-4000-95FC-E40A1F3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2A294-C0E2-4321-8577-EC40845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B1D8B-49C9-4292-8E31-939517F7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870CB-8DC0-4C8E-9791-92BBC846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9F14B-0F0D-4F1A-8A1F-BEDD041C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ED5EB-38C4-427B-A392-046CEBC7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739AA-D37D-4FEE-8D1E-F899707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4E7A-1578-477A-BB32-0B4A349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E66C4-68C6-480A-AA9C-82E005AC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30164-7B77-4B25-951D-513FCCB1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C49BB-857D-477E-910F-A538B2A2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44764-FBA9-4AFC-98FA-ADC1986E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508D5-EDB6-45C9-8C22-29AC4B9E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28556-5F00-449A-B336-CDCA1EC0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BEC0C-65CF-45A8-A61D-CD52B3BB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FF7E6-D928-42F2-8E52-11CD5F99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B42AF-D72D-4693-9495-BA0F3783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80DE1-7328-4B64-9677-0B3212D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364-E4CB-45E3-944A-003F48D1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1395-9BA3-40C8-B345-4BE19740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1CC6A-E1E9-4849-A6E5-8BA7E71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3B2C7-7F92-484A-A623-D13E5733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EA358-D2CE-428A-A427-D8CE45F2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38D09-F655-42DA-BE72-0BA5515E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3655A-9979-4536-9F16-4FF3ECCE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85ECF-D825-48A0-BF94-DF26BE49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9742A-90B3-41E7-AABD-6055F90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F44D2-2469-443B-8BCC-DAD53C2E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EB7EA-7D81-4BB7-9F56-FE106E3C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270572-6C20-4048-8ED2-3611362D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9F60-7123-4AC2-8241-8463244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E06DE-81A2-4AE7-B71D-3308476A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234B3-36EC-4956-B15F-87763B1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7907C-D1D5-4FC7-BF0C-ED7DF5A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BAE31-EF73-44CC-928B-BC848AF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3C25E-28A0-41F9-B9E8-83988820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9160E-16E4-49AB-B6D3-57ED251B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A9001-5580-402A-8FD6-2F5189D8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7A8A3-D9E4-47AE-9181-E41C5DD8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ADD8E-C85D-4945-8EFF-7649FD9E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2148B-E389-472D-8096-2D49FDAE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AA10-B5AE-4073-888D-19A23704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720E1-4727-4459-98BA-369EE408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8AC39-6C8F-4AA1-954A-0B007879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D7D0D-495B-4DCD-B6DB-2600E456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452B5-A6F7-4872-9453-89CA42F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2CBDE-8AD3-4898-936D-E3D9EA8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52108-C380-4034-89A4-A6D9463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2F514-EC6E-44ED-B7E0-13F84845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EDADB-A553-477B-BC5A-66FE4CF2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585CB-AA5E-4F79-9B2E-9A3F8D3B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2758-5F2B-4756-9DB1-4A33C65C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1BEA-17D3-44E1-B583-5A1AEE45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2303-0CAD-468A-9538-9132054E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3ABF-0122-4F4C-A60C-AC3DB707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2AB2-07E6-4AB9-9E02-E3248C0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F903-0BF5-4BE9-AC42-69A19DB6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8004-1E99-47B3-9AFC-872AB34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3A6-8AE8-4B04-917B-4E2717AE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1B01-1A3E-47C5-BB5E-0CF3DEB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013A-23E8-439A-84EB-7622152E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7C6B-0FBA-4C67-B4C3-D2DE9B2E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E71BD-04F1-469B-B685-9C9151A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735E-3E66-4699-A9CD-B78076D4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39FC-DB5D-41D6-82D2-C1244C17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EC72-B086-4F75-9142-EA8FCAC4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97EA-BFAD-4409-A9C2-6C88CAFD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382A-50E4-4F3E-B62B-4AE7450F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6C2C-9B94-4DA8-A37C-F43B488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3A6-0B37-4D41-AF5F-621873A5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C94DF-4302-42E4-92B2-DEC2AEF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EB0A-5E4E-4EFC-AF17-473CD71E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75AE-5F35-4D47-86DB-E5C7A02B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8C5E-2658-4CEA-AACD-E297EED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A2B3-3048-45BC-A18A-19C016B7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0683A-371D-4EB7-88BA-29FBA11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C351-208F-4E31-9F17-0DACD25A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7CD2-FD18-43D7-9714-ACA4FF34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E87C2-61F9-4377-8A1C-C0DC08A1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58934-F17D-482F-869D-E727FC7B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9A8-5789-4184-9580-8181079A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EFCA-C483-42A9-9BE2-8F1E44A3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E858-F017-49FB-AA13-EA330403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5A8CF-361A-4425-8CD3-16E51FEE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FA964-0E6A-4CCC-963C-873642C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9000-9B34-4E00-9303-06BB82E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442ED-5E27-4063-BBDA-80DC617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4040F-FB87-4A45-959B-EE2B8D1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C4FD-4085-4DB1-96A2-3D9326EC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F567-9BB6-418D-B792-706DC94F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905A3-9461-42E4-B8F9-63571C70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FCD-B93D-4E86-94AB-0BD3DF2B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65DC-2664-47C0-9F5B-B4E24857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2A4B-6208-44D6-B7F9-20AD4553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0B8EE-CC4D-46B5-8383-70B5CA2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395B-4164-4CAF-80CF-51167AFF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5F7C2-438A-4A2C-902C-55501D8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84387-076D-4578-97EC-D4442073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71BC-453D-4DE6-A5D0-4DA2DDC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3F6C3-25E3-46C6-882B-95647360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5AB9-81A7-41D6-B1C1-975EDED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F1441-0DD5-4089-B440-3DF3DC2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D30-1995-4693-8CCD-C9A8B6EF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8A816-8FE0-44FE-A832-2C6D31B1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C2FE-9F98-4BDD-A4C7-95B9CBF0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13B4-949F-43B3-8DAF-E1D3860D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F626-5C32-4724-A102-89D9ED37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4F5DA-BB34-4367-ADB4-98A37C4D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15546-69F5-4365-9186-7C15E788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08CE-1EFB-4E31-AAF3-FDEEAF1C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A391B-EF99-4383-B6B4-45D35027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2089-AD56-47F4-B67C-1399663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DC8EA-3E05-4EAD-B3F1-B35C1434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0CB-871E-49A0-9582-3011B8C3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740EF-7D09-44F0-881E-F244813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01484-B217-4A48-BF9F-1AA6A6F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1335-C98B-4A29-990E-843B85E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65D2-F1A5-4ABE-B1B6-EA0E210E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0AB2-8B54-4D45-B6FE-C3FCD45D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7395-75C4-4C27-9075-32BEA5DE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8E10-A9B9-42C4-A60F-64DA2BE7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0AA06-2439-45A1-A997-F3D109C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798D5-47FA-4005-AB35-948AAE9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6F10C-E31E-4498-A524-EC7974C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AFB-D9C8-4F27-966C-C967106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71F6E-BB1B-471D-BD2B-B6E13F05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7A751-2287-490F-A063-220C051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86EE0-6B2B-47E7-B018-6B83C3D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0CC89-C6BD-47A0-8707-9056913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41DD0-828A-4D67-939B-B91ED52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5235-0F63-4FD1-A730-AD8FEF8B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1679A-B6CB-4EA6-997B-EA4E10E2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2713E-8D29-4730-8C59-B5B7DE09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897E-5B76-4432-A91B-142E8FC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0C4CD-7602-4908-BA37-D94C95C5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B48D-77B0-4287-AA1B-B512A466C59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17CE-CAAD-4D5C-BFEC-D2E82BA015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D336-538C-4E98-99A7-E23D4CE32B3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C82-01C9-4650-A412-324D21D547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3A1E-689C-4A57-A98B-50196C338B2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AF22-9C1A-4A11-BA2C-3BF22C0FE4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D40C-CD41-462A-A994-D773BC9BF7A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96C3-8256-44CB-93F3-CE4B43BF5D1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B421-DD9C-489C-AC13-FD5B58B2916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7D01-0C47-474E-AE52-9930C9BEE4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51D-C9A1-4C95-BA93-6FB61D86071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4A43-1AA1-4F6E-9131-DBE7ED68EE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0D70-2A7E-4C72-AEB8-91D17144BF0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B43-2720-4BBA-9FC8-A31BBF878C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9C2C-7727-46A9-B084-EA896C2BAC0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00AF-F571-4EEE-9F71-C8788DE5C3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28A0-8CC4-4E83-9773-D7A945EF5B1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4A4-1243-4B6F-A895-C86948C00E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BEE5-FCAF-43DD-8116-A0D67D4EFBE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FF42-86B6-4A6E-BCF2-F545833542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907-FB6E-40DD-A84A-C5D34EA540D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3799-944D-4C21-812F-6E85D7A1F7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025-000B-40F8-90CD-8AAD0F2E7DE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B363-502B-4C11-BA49-444E9E6483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E9D-9124-45B3-9F98-10CA6D68BED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7D01-2943-4325-86D8-8D650F7F21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F35-0985-452A-BA54-985FBA8988D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15C0-71C4-4BD3-B099-A7C03E1A4A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90FF-D0C2-4940-8ADF-4D5E1B4C11C1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53EF-DD10-45AE-B04F-33DDDEA0FC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6EC-1F56-4FB8-9313-35E913B960E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DBFD-FE26-4B5F-BEE7-DBCD8D6C22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19EC-F2DE-4B02-BB1A-4E745A2A071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07B7-6BDD-4312-8989-A2C59A5175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C0AB-5582-4EE3-8562-F811E8CD05C9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FC89-CACE-474D-8D03-FFB28F1A5E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39FE-B232-4C7C-B6D1-1F775C52E5A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12E-21BC-4FE8-8DCC-F56E4D40A3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Imagen 2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807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ángulo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Rectángulo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ángulo 7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ángulo 8"/>
          <p:cNvSpPr/>
          <p:nvPr/>
        </p:nvSpPr>
        <p:spPr>
          <a:xfrm>
            <a:off x="990720" y="1784520"/>
            <a:ext cx="19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ac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ángulo 9"/>
          <p:cNvSpPr/>
          <p:nvPr/>
        </p:nvSpPr>
        <p:spPr>
          <a:xfrm>
            <a:off x="4191120" y="1676520"/>
            <a:ext cx="244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ángulo 10"/>
          <p:cNvSpPr/>
          <p:nvPr/>
        </p:nvSpPr>
        <p:spPr>
          <a:xfrm>
            <a:off x="1219320" y="2895480"/>
            <a:ext cx="20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Imagen 11" descr=""/>
          <p:cNvPicPr/>
          <p:nvPr/>
        </p:nvPicPr>
        <p:blipFill>
          <a:blip r:embed="rId1"/>
          <a:stretch/>
        </p:blipFill>
        <p:spPr>
          <a:xfrm>
            <a:off x="3051000" y="2292480"/>
            <a:ext cx="6093000" cy="4565520"/>
          </a:xfrm>
          <a:prstGeom prst="rect">
            <a:avLst/>
          </a:prstGeom>
          <a:ln w="0">
            <a:noFill/>
          </a:ln>
        </p:spPr>
      </p:pic>
      <p:sp>
        <p:nvSpPr>
          <p:cNvPr id="871" name="Rectángulo 12"/>
          <p:cNvSpPr/>
          <p:nvPr/>
        </p:nvSpPr>
        <p:spPr>
          <a:xfrm>
            <a:off x="3195720" y="3611520"/>
            <a:ext cx="2219400" cy="393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ángulo 13"/>
          <p:cNvSpPr/>
          <p:nvPr/>
        </p:nvSpPr>
        <p:spPr>
          <a:xfrm>
            <a:off x="6877080" y="4581360"/>
            <a:ext cx="1871640" cy="332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DP-Diac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ángulo 14"/>
          <p:cNvSpPr/>
          <p:nvPr/>
        </p:nvSpPr>
        <p:spPr>
          <a:xfrm>
            <a:off x="8494560" y="4152960"/>
            <a:ext cx="314640" cy="393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Línea 15"/>
          <p:cNvSpPr/>
          <p:nvPr/>
        </p:nvSpPr>
        <p:spPr>
          <a:xfrm flipH="1" flipV="1">
            <a:off x="2289240" y="2292480"/>
            <a:ext cx="761760" cy="1218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ángulo 16"/>
          <p:cNvSpPr/>
          <p:nvPr/>
        </p:nvSpPr>
        <p:spPr>
          <a:xfrm>
            <a:off x="225360" y="1886040"/>
            <a:ext cx="53352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Times New Roman"/>
                <a:ea typeface="Arial"/>
              </a:rPr>
              <a:t>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Línea 17"/>
          <p:cNvSpPr/>
          <p:nvPr/>
        </p:nvSpPr>
        <p:spPr>
          <a:xfrm flipH="1">
            <a:off x="761760" y="200196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Cuadro de texto 7"/>
          <p:cNvSpPr/>
          <p:nvPr/>
        </p:nvSpPr>
        <p:spPr>
          <a:xfrm>
            <a:off x="611280" y="4221000"/>
            <a:ext cx="223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DP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Cuadro de texto 8"/>
          <p:cNvSpPr/>
          <p:nvPr/>
        </p:nvSpPr>
        <p:spPr>
          <a:xfrm>
            <a:off x="4284720" y="2781360"/>
            <a:ext cx="208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,2-Diacilglicero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Cuadro de texto 9"/>
          <p:cNvSpPr/>
          <p:nvPr/>
        </p:nvSpPr>
        <p:spPr>
          <a:xfrm>
            <a:off x="3562200" y="5877000"/>
            <a:ext cx="230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Glicerofosfolíp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Cuadro de texto 10"/>
          <p:cNvSpPr/>
          <p:nvPr/>
        </p:nvSpPr>
        <p:spPr>
          <a:xfrm>
            <a:off x="5851440" y="4599000"/>
            <a:ext cx="20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erina, Etanolamin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8200" cy="62992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3" descr=""/>
          <p:cNvPicPr/>
          <p:nvPr/>
        </p:nvPicPr>
        <p:blipFill>
          <a:blip r:embed="rId2"/>
          <a:stretch/>
        </p:blipFill>
        <p:spPr>
          <a:xfrm>
            <a:off x="6446880" y="4649760"/>
            <a:ext cx="2352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SÍNTESIS DE FOSFATIDILCOLIN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884" name="Grupo 23"/>
          <p:cNvGrpSpPr/>
          <p:nvPr/>
        </p:nvGrpSpPr>
        <p:grpSpPr>
          <a:xfrm>
            <a:off x="611280" y="1916280"/>
            <a:ext cx="4205160" cy="4392360"/>
            <a:chOff x="611280" y="1916280"/>
            <a:chExt cx="4205160" cy="4392360"/>
          </a:xfrm>
        </p:grpSpPr>
        <p:pic>
          <p:nvPicPr>
            <p:cNvPr id="885" name="Imagen 4" descr="fi19p5"/>
            <p:cNvPicPr/>
            <p:nvPr/>
          </p:nvPicPr>
          <p:blipFill>
            <a:blip r:embed="rId1"/>
            <a:srcRect l="0" t="0" r="15677" b="40533"/>
            <a:stretch/>
          </p:blipFill>
          <p:spPr>
            <a:xfrm>
              <a:off x="611280" y="1916280"/>
              <a:ext cx="420516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Cuadro de texto 21"/>
            <p:cNvSpPr/>
            <p:nvPr/>
          </p:nvSpPr>
          <p:spPr>
            <a:xfrm>
              <a:off x="685800" y="5424480"/>
              <a:ext cx="106668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ángulo 22"/>
          <p:cNvSpPr/>
          <p:nvPr/>
        </p:nvSpPr>
        <p:spPr>
          <a:xfrm>
            <a:off x="600120" y="2036880"/>
            <a:ext cx="121932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8" name="Grupo 24"/>
          <p:cNvGrpSpPr/>
          <p:nvPr/>
        </p:nvGrpSpPr>
        <p:grpSpPr>
          <a:xfrm>
            <a:off x="4594320" y="1825560"/>
            <a:ext cx="4525920" cy="3794040"/>
            <a:chOff x="4594320" y="1825560"/>
            <a:chExt cx="4525920" cy="3794040"/>
          </a:xfrm>
        </p:grpSpPr>
        <p:pic>
          <p:nvPicPr>
            <p:cNvPr id="889" name="Imagen 7" descr="fi19p5"/>
            <p:cNvPicPr/>
            <p:nvPr/>
          </p:nvPicPr>
          <p:blipFill>
            <a:blip r:embed="rId2"/>
            <a:srcRect l="4770" t="43625" r="0" b="0"/>
            <a:stretch/>
          </p:blipFill>
          <p:spPr>
            <a:xfrm>
              <a:off x="4791240" y="1825560"/>
              <a:ext cx="432900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Cuadro de texto 19"/>
            <p:cNvSpPr/>
            <p:nvPr/>
          </p:nvSpPr>
          <p:spPr>
            <a:xfrm>
              <a:off x="4594320" y="2118960"/>
              <a:ext cx="10670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itid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Cuadro de texto 20"/>
            <p:cNvSpPr/>
            <p:nvPr/>
          </p:nvSpPr>
          <p:spPr>
            <a:xfrm>
              <a:off x="6804360" y="3725640"/>
              <a:ext cx="76176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M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ángulo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ángulo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ángulo 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  <a:ea typeface="Arial"/>
              </a:rPr>
              <a:t>Biosíntesis de fosfolípidos a partir de CDP-diacilglic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ángulo 7"/>
          <p:cNvSpPr/>
          <p:nvPr/>
        </p:nvSpPr>
        <p:spPr>
          <a:xfrm>
            <a:off x="3048120" y="2362320"/>
            <a:ext cx="2286000" cy="6987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DP- Diac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Línea 8"/>
          <p:cNvSpPr/>
          <p:nvPr/>
        </p:nvSpPr>
        <p:spPr>
          <a:xfrm flipH="1">
            <a:off x="2819520" y="2895480"/>
            <a:ext cx="7617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Línea 9"/>
          <p:cNvSpPr/>
          <p:nvPr/>
        </p:nvSpPr>
        <p:spPr>
          <a:xfrm>
            <a:off x="4419720" y="2895480"/>
            <a:ext cx="990360" cy="838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ángulo 10"/>
          <p:cNvSpPr/>
          <p:nvPr/>
        </p:nvSpPr>
        <p:spPr>
          <a:xfrm>
            <a:off x="1752480" y="2514600"/>
            <a:ext cx="92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-3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ángulo 11"/>
          <p:cNvSpPr/>
          <p:nvPr/>
        </p:nvSpPr>
        <p:spPr>
          <a:xfrm>
            <a:off x="542880" y="3808440"/>
            <a:ext cx="22734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idilgli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ángulo 12"/>
          <p:cNvSpPr/>
          <p:nvPr/>
        </p:nvSpPr>
        <p:spPr>
          <a:xfrm>
            <a:off x="230040" y="4421160"/>
            <a:ext cx="175284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Fosfatidil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Línea 13"/>
          <p:cNvSpPr/>
          <p:nvPr/>
        </p:nvSpPr>
        <p:spPr>
          <a:xfrm>
            <a:off x="2286000" y="4343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ángulo 14"/>
          <p:cNvSpPr/>
          <p:nvPr/>
        </p:nvSpPr>
        <p:spPr>
          <a:xfrm>
            <a:off x="838080" y="5448240"/>
            <a:ext cx="198144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diolip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ángulo 15"/>
          <p:cNvSpPr/>
          <p:nvPr/>
        </p:nvSpPr>
        <p:spPr>
          <a:xfrm>
            <a:off x="992160" y="4878360"/>
            <a:ext cx="9144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ice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ángulo 16"/>
          <p:cNvSpPr/>
          <p:nvPr/>
        </p:nvSpPr>
        <p:spPr>
          <a:xfrm>
            <a:off x="4605480" y="3838680"/>
            <a:ext cx="241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ser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ángulo 18"/>
          <p:cNvSpPr/>
          <p:nvPr/>
        </p:nvSpPr>
        <p:spPr>
          <a:xfrm>
            <a:off x="1752480" y="289548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Forma libre 19"/>
          <p:cNvSpPr/>
          <p:nvPr/>
        </p:nvSpPr>
        <p:spPr>
          <a:xfrm>
            <a:off x="2057400" y="4648320"/>
            <a:ext cx="230040" cy="37440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ínea 20"/>
          <p:cNvSpPr/>
          <p:nvPr/>
        </p:nvSpPr>
        <p:spPr>
          <a:xfrm flipH="1">
            <a:off x="2362320" y="33526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orma libre 21"/>
          <p:cNvSpPr/>
          <p:nvPr/>
        </p:nvSpPr>
        <p:spPr>
          <a:xfrm>
            <a:off x="2743200" y="2743200"/>
            <a:ext cx="230040" cy="374760"/>
          </a:xfrm>
          <a:custGeom>
            <a:avLst/>
            <a:gdLst/>
            <a:ahLst/>
            <a:rect l="l" t="t" r="r" b="b"/>
            <a:pathLst>
              <a:path w="145" h="236">
                <a:moveTo>
                  <a:pt x="0" y="0"/>
                </a:moveTo>
                <a:lnTo>
                  <a:pt x="15" y="0"/>
                </a:lnTo>
                <a:lnTo>
                  <a:pt x="29" y="2"/>
                </a:lnTo>
                <a:lnTo>
                  <a:pt x="43" y="4"/>
                </a:lnTo>
                <a:lnTo>
                  <a:pt x="56" y="7"/>
                </a:lnTo>
                <a:lnTo>
                  <a:pt x="69" y="10"/>
                </a:lnTo>
                <a:lnTo>
                  <a:pt x="81" y="14"/>
                </a:lnTo>
                <a:lnTo>
                  <a:pt x="92" y="19"/>
                </a:lnTo>
                <a:lnTo>
                  <a:pt x="97" y="22"/>
                </a:lnTo>
                <a:lnTo>
                  <a:pt x="102" y="25"/>
                </a:lnTo>
                <a:lnTo>
                  <a:pt x="107" y="28"/>
                </a:lnTo>
                <a:lnTo>
                  <a:pt x="111" y="31"/>
                </a:lnTo>
                <a:lnTo>
                  <a:pt x="116" y="34"/>
                </a:lnTo>
                <a:lnTo>
                  <a:pt x="120" y="37"/>
                </a:lnTo>
                <a:lnTo>
                  <a:pt x="123" y="41"/>
                </a:lnTo>
                <a:lnTo>
                  <a:pt x="127" y="44"/>
                </a:lnTo>
                <a:lnTo>
                  <a:pt x="130" y="48"/>
                </a:lnTo>
                <a:lnTo>
                  <a:pt x="133" y="51"/>
                </a:lnTo>
                <a:lnTo>
                  <a:pt x="135" y="55"/>
                </a:lnTo>
                <a:lnTo>
                  <a:pt x="138" y="59"/>
                </a:lnTo>
                <a:lnTo>
                  <a:pt x="140" y="63"/>
                </a:lnTo>
                <a:lnTo>
                  <a:pt x="141" y="67"/>
                </a:lnTo>
                <a:lnTo>
                  <a:pt x="142" y="71"/>
                </a:lnTo>
                <a:lnTo>
                  <a:pt x="143" y="76"/>
                </a:lnTo>
                <a:lnTo>
                  <a:pt x="144" y="80"/>
                </a:lnTo>
                <a:lnTo>
                  <a:pt x="144" y="84"/>
                </a:lnTo>
                <a:lnTo>
                  <a:pt x="144" y="132"/>
                </a:lnTo>
                <a:lnTo>
                  <a:pt x="144" y="139"/>
                </a:lnTo>
                <a:lnTo>
                  <a:pt x="142" y="145"/>
                </a:lnTo>
                <a:lnTo>
                  <a:pt x="140" y="152"/>
                </a:lnTo>
                <a:lnTo>
                  <a:pt x="137" y="158"/>
                </a:lnTo>
                <a:lnTo>
                  <a:pt x="133" y="164"/>
                </a:lnTo>
                <a:lnTo>
                  <a:pt x="129" y="170"/>
                </a:lnTo>
                <a:lnTo>
                  <a:pt x="124" y="175"/>
                </a:lnTo>
                <a:lnTo>
                  <a:pt x="118" y="180"/>
                </a:lnTo>
                <a:lnTo>
                  <a:pt x="111" y="185"/>
                </a:lnTo>
                <a:lnTo>
                  <a:pt x="104" y="190"/>
                </a:lnTo>
                <a:lnTo>
                  <a:pt x="96" y="195"/>
                </a:lnTo>
                <a:lnTo>
                  <a:pt x="87" y="199"/>
                </a:lnTo>
                <a:lnTo>
                  <a:pt x="78" y="202"/>
                </a:lnTo>
                <a:lnTo>
                  <a:pt x="69" y="206"/>
                </a:lnTo>
                <a:lnTo>
                  <a:pt x="59" y="208"/>
                </a:lnTo>
                <a:lnTo>
                  <a:pt x="48" y="211"/>
                </a:lnTo>
                <a:lnTo>
                  <a:pt x="48" y="235"/>
                </a:lnTo>
                <a:lnTo>
                  <a:pt x="0" y="192"/>
                </a:lnTo>
                <a:lnTo>
                  <a:pt x="48" y="139"/>
                </a:lnTo>
                <a:lnTo>
                  <a:pt x="48" y="163"/>
                </a:lnTo>
                <a:lnTo>
                  <a:pt x="56" y="161"/>
                </a:lnTo>
                <a:lnTo>
                  <a:pt x="64" y="159"/>
                </a:lnTo>
                <a:lnTo>
                  <a:pt x="71" y="157"/>
                </a:lnTo>
                <a:lnTo>
                  <a:pt x="78" y="154"/>
                </a:lnTo>
                <a:lnTo>
                  <a:pt x="85" y="151"/>
                </a:lnTo>
                <a:lnTo>
                  <a:pt x="92" y="148"/>
                </a:lnTo>
                <a:lnTo>
                  <a:pt x="98" y="145"/>
                </a:lnTo>
                <a:lnTo>
                  <a:pt x="104" y="142"/>
                </a:lnTo>
                <a:lnTo>
                  <a:pt x="110" y="138"/>
                </a:lnTo>
                <a:lnTo>
                  <a:pt x="115" y="134"/>
                </a:lnTo>
                <a:lnTo>
                  <a:pt x="120" y="131"/>
                </a:lnTo>
                <a:lnTo>
                  <a:pt x="125" y="126"/>
                </a:lnTo>
                <a:lnTo>
                  <a:pt x="129" y="122"/>
                </a:lnTo>
                <a:lnTo>
                  <a:pt x="132" y="117"/>
                </a:lnTo>
                <a:lnTo>
                  <a:pt x="135" y="113"/>
                </a:lnTo>
                <a:lnTo>
                  <a:pt x="138" y="108"/>
                </a:lnTo>
                <a:lnTo>
                  <a:pt x="134" y="102"/>
                </a:lnTo>
                <a:lnTo>
                  <a:pt x="129" y="95"/>
                </a:lnTo>
                <a:lnTo>
                  <a:pt x="124" y="89"/>
                </a:lnTo>
                <a:lnTo>
                  <a:pt x="118" y="83"/>
                </a:lnTo>
                <a:lnTo>
                  <a:pt x="111" y="78"/>
                </a:lnTo>
                <a:lnTo>
                  <a:pt x="103" y="73"/>
                </a:lnTo>
                <a:lnTo>
                  <a:pt x="95" y="69"/>
                </a:lnTo>
                <a:lnTo>
                  <a:pt x="86" y="65"/>
                </a:lnTo>
                <a:lnTo>
                  <a:pt x="77" y="61"/>
                </a:lnTo>
                <a:lnTo>
                  <a:pt x="67" y="57"/>
                </a:lnTo>
                <a:lnTo>
                  <a:pt x="57" y="55"/>
                </a:lnTo>
                <a:lnTo>
                  <a:pt x="46" y="52"/>
                </a:lnTo>
                <a:lnTo>
                  <a:pt x="35" y="51"/>
                </a:lnTo>
                <a:lnTo>
                  <a:pt x="24" y="49"/>
                </a:lnTo>
                <a:lnTo>
                  <a:pt x="12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ángulo 22"/>
          <p:cNvSpPr/>
          <p:nvPr/>
        </p:nvSpPr>
        <p:spPr>
          <a:xfrm>
            <a:off x="5029200" y="312408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M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ángulo 23"/>
          <p:cNvSpPr/>
          <p:nvPr/>
        </p:nvSpPr>
        <p:spPr>
          <a:xfrm>
            <a:off x="4876920" y="2743200"/>
            <a:ext cx="771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Ser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orma libre 24"/>
          <p:cNvSpPr/>
          <p:nvPr/>
        </p:nvSpPr>
        <p:spPr>
          <a:xfrm>
            <a:off x="4776840" y="2957400"/>
            <a:ext cx="212760" cy="368280"/>
          </a:xfrm>
          <a:custGeom>
            <a:avLst/>
            <a:gdLst/>
            <a:ahLst/>
            <a:rect l="l" t="t" r="r" b="b"/>
            <a:pathLst>
              <a:path w="134" h="232">
                <a:moveTo>
                  <a:pt x="65" y="0"/>
                </a:moveTo>
                <a:lnTo>
                  <a:pt x="56" y="4"/>
                </a:lnTo>
                <a:lnTo>
                  <a:pt x="48" y="9"/>
                </a:lnTo>
                <a:lnTo>
                  <a:pt x="40" y="14"/>
                </a:lnTo>
                <a:lnTo>
                  <a:pt x="33" y="19"/>
                </a:lnTo>
                <a:lnTo>
                  <a:pt x="26" y="26"/>
                </a:lnTo>
                <a:lnTo>
                  <a:pt x="20" y="32"/>
                </a:lnTo>
                <a:lnTo>
                  <a:pt x="15" y="40"/>
                </a:lnTo>
                <a:lnTo>
                  <a:pt x="11" y="47"/>
                </a:lnTo>
                <a:lnTo>
                  <a:pt x="7" y="55"/>
                </a:lnTo>
                <a:lnTo>
                  <a:pt x="4" y="63"/>
                </a:lnTo>
                <a:lnTo>
                  <a:pt x="2" y="71"/>
                </a:lnTo>
                <a:lnTo>
                  <a:pt x="1" y="79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0"/>
                </a:lnTo>
                <a:lnTo>
                  <a:pt x="2" y="104"/>
                </a:lnTo>
                <a:lnTo>
                  <a:pt x="4" y="108"/>
                </a:lnTo>
                <a:lnTo>
                  <a:pt x="5" y="112"/>
                </a:lnTo>
                <a:lnTo>
                  <a:pt x="22" y="157"/>
                </a:lnTo>
                <a:lnTo>
                  <a:pt x="25" y="163"/>
                </a:lnTo>
                <a:lnTo>
                  <a:pt x="28" y="169"/>
                </a:lnTo>
                <a:lnTo>
                  <a:pt x="31" y="174"/>
                </a:lnTo>
                <a:lnTo>
                  <a:pt x="36" y="179"/>
                </a:lnTo>
                <a:lnTo>
                  <a:pt x="40" y="184"/>
                </a:lnTo>
                <a:lnTo>
                  <a:pt x="45" y="189"/>
                </a:lnTo>
                <a:lnTo>
                  <a:pt x="50" y="193"/>
                </a:lnTo>
                <a:lnTo>
                  <a:pt x="56" y="196"/>
                </a:lnTo>
                <a:lnTo>
                  <a:pt x="62" y="199"/>
                </a:lnTo>
                <a:lnTo>
                  <a:pt x="68" y="202"/>
                </a:lnTo>
                <a:lnTo>
                  <a:pt x="75" y="205"/>
                </a:lnTo>
                <a:lnTo>
                  <a:pt x="81" y="206"/>
                </a:lnTo>
                <a:lnTo>
                  <a:pt x="88" y="208"/>
                </a:lnTo>
                <a:lnTo>
                  <a:pt x="95" y="209"/>
                </a:lnTo>
                <a:lnTo>
                  <a:pt x="103" y="209"/>
                </a:lnTo>
                <a:lnTo>
                  <a:pt x="110" y="209"/>
                </a:lnTo>
                <a:lnTo>
                  <a:pt x="119" y="231"/>
                </a:lnTo>
                <a:lnTo>
                  <a:pt x="133" y="179"/>
                </a:lnTo>
                <a:lnTo>
                  <a:pt x="85" y="141"/>
                </a:lnTo>
                <a:lnTo>
                  <a:pt x="93" y="164"/>
                </a:lnTo>
                <a:lnTo>
                  <a:pt x="82" y="164"/>
                </a:lnTo>
                <a:lnTo>
                  <a:pt x="71" y="163"/>
                </a:lnTo>
                <a:lnTo>
                  <a:pt x="60" y="161"/>
                </a:lnTo>
                <a:lnTo>
                  <a:pt x="51" y="157"/>
                </a:lnTo>
                <a:lnTo>
                  <a:pt x="41" y="153"/>
                </a:lnTo>
                <a:lnTo>
                  <a:pt x="33" y="147"/>
                </a:lnTo>
                <a:lnTo>
                  <a:pt x="29" y="144"/>
                </a:lnTo>
                <a:lnTo>
                  <a:pt x="25" y="140"/>
                </a:lnTo>
                <a:lnTo>
                  <a:pt x="21" y="137"/>
                </a:lnTo>
                <a:lnTo>
                  <a:pt x="18" y="133"/>
                </a:lnTo>
                <a:lnTo>
                  <a:pt x="18" y="126"/>
                </a:lnTo>
                <a:lnTo>
                  <a:pt x="18" y="119"/>
                </a:lnTo>
                <a:lnTo>
                  <a:pt x="20" y="112"/>
                </a:lnTo>
                <a:lnTo>
                  <a:pt x="22" y="106"/>
                </a:lnTo>
                <a:lnTo>
                  <a:pt x="24" y="99"/>
                </a:lnTo>
                <a:lnTo>
                  <a:pt x="27" y="93"/>
                </a:lnTo>
                <a:lnTo>
                  <a:pt x="31" y="87"/>
                </a:lnTo>
                <a:lnTo>
                  <a:pt x="35" y="81"/>
                </a:lnTo>
                <a:lnTo>
                  <a:pt x="39" y="75"/>
                </a:lnTo>
                <a:lnTo>
                  <a:pt x="44" y="70"/>
                </a:lnTo>
                <a:lnTo>
                  <a:pt x="50" y="65"/>
                </a:lnTo>
                <a:lnTo>
                  <a:pt x="55" y="60"/>
                </a:lnTo>
                <a:lnTo>
                  <a:pt x="61" y="56"/>
                </a:lnTo>
                <a:lnTo>
                  <a:pt x="68" y="52"/>
                </a:lnTo>
                <a:lnTo>
                  <a:pt x="75" y="48"/>
                </a:lnTo>
                <a:lnTo>
                  <a:pt x="82" y="45"/>
                </a:lnTo>
                <a:lnTo>
                  <a:pt x="65" y="0"/>
                </a:lnTo>
              </a:path>
            </a:pathLst>
          </a:custGeom>
          <a:solidFill>
            <a:srgbClr val="777777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Línea 25"/>
          <p:cNvSpPr/>
          <p:nvPr/>
        </p:nvSpPr>
        <p:spPr>
          <a:xfrm>
            <a:off x="53341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Rectángulo 26"/>
          <p:cNvSpPr/>
          <p:nvPr/>
        </p:nvSpPr>
        <p:spPr>
          <a:xfrm>
            <a:off x="4834080" y="5329080"/>
            <a:ext cx="1914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Fosfatidil Etanol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Línea 27"/>
          <p:cNvSpPr/>
          <p:nvPr/>
        </p:nvSpPr>
        <p:spPr>
          <a:xfrm>
            <a:off x="5334120" y="44956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ángulo 28"/>
          <p:cNvSpPr/>
          <p:nvPr/>
        </p:nvSpPr>
        <p:spPr>
          <a:xfrm>
            <a:off x="5791320" y="4648320"/>
            <a:ext cx="618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CO</a:t>
            </a:r>
            <a:r>
              <a:rPr b="0" lang="es-ES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6 CuadroTexto"/>
          <p:cNvSpPr/>
          <p:nvPr/>
        </p:nvSpPr>
        <p:spPr>
          <a:xfrm>
            <a:off x="2369520" y="46306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  <a:ea typeface="Arial"/>
              </a:rPr>
              <a:t>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Imagen 2" descr=""/>
          <p:cNvPicPr/>
          <p:nvPr/>
        </p:nvPicPr>
        <p:blipFill>
          <a:blip r:embed="rId1"/>
          <a:stretch/>
        </p:blipFill>
        <p:spPr>
          <a:xfrm>
            <a:off x="1258920" y="-38160"/>
            <a:ext cx="6265800" cy="6896160"/>
          </a:xfrm>
          <a:prstGeom prst="rect">
            <a:avLst/>
          </a:prstGeom>
          <a:ln w="0">
            <a:noFill/>
          </a:ln>
        </p:spPr>
      </p:pic>
      <p:sp>
        <p:nvSpPr>
          <p:cNvPr id="918" name="Cuadro de texto 3"/>
          <p:cNvSpPr/>
          <p:nvPr/>
        </p:nvSpPr>
        <p:spPr>
          <a:xfrm>
            <a:off x="4211640" y="1611360"/>
            <a:ext cx="1873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4"/>
          <p:cNvSpPr/>
          <p:nvPr/>
        </p:nvSpPr>
        <p:spPr>
          <a:xfrm>
            <a:off x="1258920" y="1089000"/>
            <a:ext cx="14400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Etanolam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Cuadro de texto 5"/>
          <p:cNvSpPr/>
          <p:nvPr/>
        </p:nvSpPr>
        <p:spPr>
          <a:xfrm>
            <a:off x="1692360" y="2308320"/>
            <a:ext cx="100656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6f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Arial"/>
                <a:ea typeface="Arial"/>
              </a:rPr>
              <a:t>Ser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6"/>
          <p:cNvSpPr/>
          <p:nvPr/>
        </p:nvSpPr>
        <p:spPr>
          <a:xfrm>
            <a:off x="1258920" y="1614600"/>
            <a:ext cx="1728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Cuadro de texto 7"/>
          <p:cNvSpPr/>
          <p:nvPr/>
        </p:nvSpPr>
        <p:spPr>
          <a:xfrm>
            <a:off x="4859280" y="1995480"/>
            <a:ext cx="180036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3333ff"/>
                </a:solidFill>
                <a:latin typeface="Arial"/>
                <a:ea typeface="Arial"/>
              </a:rPr>
              <a:t>Descarboxil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Cuadro de texto 8"/>
          <p:cNvSpPr/>
          <p:nvPr/>
        </p:nvSpPr>
        <p:spPr>
          <a:xfrm>
            <a:off x="3492360" y="3789360"/>
            <a:ext cx="2880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Cuadro de texto 9"/>
          <p:cNvSpPr/>
          <p:nvPr/>
        </p:nvSpPr>
        <p:spPr>
          <a:xfrm>
            <a:off x="3419640" y="4149720"/>
            <a:ext cx="1584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  <a:ea typeface="Arial"/>
              </a:rPr>
              <a:t>Metil 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10"/>
          <p:cNvSpPr/>
          <p:nvPr/>
        </p:nvSpPr>
        <p:spPr>
          <a:xfrm>
            <a:off x="4076640" y="648504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BB9C-EB18-4222-8851-B3C8E2EFF4F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222120" y="836640"/>
            <a:ext cx="8699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solidFill>
            <a:srgbClr val="7f7f7f"/>
          </a:solidFill>
          <a:ln w="9360">
            <a:solidFill>
              <a:srgbClr val="8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BIOSÍNTESIS DE FOSFATIDIL INOSITOL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9" name="Elipse 11"/>
          <p:cNvSpPr/>
          <p:nvPr/>
        </p:nvSpPr>
        <p:spPr>
          <a:xfrm>
            <a:off x="4076640" y="5575320"/>
            <a:ext cx="1600200" cy="6858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2º Mensaj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Grupo 24"/>
          <p:cNvGrpSpPr/>
          <p:nvPr/>
        </p:nvGrpSpPr>
        <p:grpSpPr>
          <a:xfrm>
            <a:off x="380880" y="2133720"/>
            <a:ext cx="6934320" cy="642600"/>
            <a:chOff x="380880" y="2133720"/>
            <a:chExt cx="6934320" cy="642600"/>
          </a:xfrm>
        </p:grpSpPr>
        <p:sp>
          <p:nvSpPr>
            <p:cNvPr id="931" name="Cuadro de texto 4"/>
            <p:cNvSpPr/>
            <p:nvPr/>
          </p:nvSpPr>
          <p:spPr>
            <a:xfrm>
              <a:off x="380880" y="2133720"/>
              <a:ext cx="69343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DP-Diacilglicerol  +  Inositol                Fosfatidilinositol  +  CM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ínea 14"/>
            <p:cNvSpPr/>
            <p:nvPr/>
          </p:nvSpPr>
          <p:spPr>
            <a:xfrm>
              <a:off x="3733920" y="2362320"/>
              <a:ext cx="609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3" name="Grupo 25"/>
          <p:cNvGrpSpPr/>
          <p:nvPr/>
        </p:nvGrpSpPr>
        <p:grpSpPr>
          <a:xfrm>
            <a:off x="304920" y="3809880"/>
            <a:ext cx="3041640" cy="2349720"/>
            <a:chOff x="304920" y="3809880"/>
            <a:chExt cx="3041640" cy="2349720"/>
          </a:xfrm>
        </p:grpSpPr>
        <p:pic>
          <p:nvPicPr>
            <p:cNvPr id="934" name="Imagen 13" descr="sp8431"/>
            <p:cNvPicPr/>
            <p:nvPr/>
          </p:nvPicPr>
          <p:blipFill>
            <a:blip r:embed="rId1"/>
            <a:srcRect l="0" t="0" r="60818" b="18070"/>
            <a:stretch/>
          </p:blipFill>
          <p:spPr>
            <a:xfrm>
              <a:off x="304920" y="3809880"/>
              <a:ext cx="304164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Cuadro de texto 22"/>
            <p:cNvSpPr/>
            <p:nvPr/>
          </p:nvSpPr>
          <p:spPr>
            <a:xfrm>
              <a:off x="533520" y="5708520"/>
              <a:ext cx="76176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Grupo 26"/>
          <p:cNvGrpSpPr/>
          <p:nvPr/>
        </p:nvGrpSpPr>
        <p:grpSpPr>
          <a:xfrm>
            <a:off x="395280" y="3035160"/>
            <a:ext cx="6919920" cy="2273400"/>
            <a:chOff x="395280" y="3035160"/>
            <a:chExt cx="6919920" cy="2273400"/>
          </a:xfrm>
        </p:grpSpPr>
        <p:sp>
          <p:nvSpPr>
            <p:cNvPr id="937" name="Cuadro de texto 5"/>
            <p:cNvSpPr/>
            <p:nvPr/>
          </p:nvSpPr>
          <p:spPr>
            <a:xfrm>
              <a:off x="395280" y="334800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sfatidilinosito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ángulo 6"/>
            <p:cNvSpPr/>
            <p:nvPr/>
          </p:nvSpPr>
          <p:spPr>
            <a:xfrm>
              <a:off x="3681360" y="3309840"/>
              <a:ext cx="36338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mono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ángulo 7"/>
            <p:cNvSpPr/>
            <p:nvPr/>
          </p:nvSpPr>
          <p:spPr>
            <a:xfrm>
              <a:off x="3733920" y="4025880"/>
              <a:ext cx="31906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inositol B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ángulo 8"/>
            <p:cNvSpPr/>
            <p:nvPr/>
          </p:nvSpPr>
          <p:spPr>
            <a:xfrm>
              <a:off x="3733920" y="4940280"/>
              <a:ext cx="236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ositol tri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Cuadro de texto 15"/>
            <p:cNvSpPr/>
            <p:nvPr/>
          </p:nvSpPr>
          <p:spPr>
            <a:xfrm>
              <a:off x="2376360" y="30351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ínea 16"/>
            <p:cNvSpPr/>
            <p:nvPr/>
          </p:nvSpPr>
          <p:spPr>
            <a:xfrm>
              <a:off x="2452680" y="3492360"/>
              <a:ext cx="11430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ínea 17"/>
            <p:cNvSpPr/>
            <p:nvPr/>
          </p:nvSpPr>
          <p:spPr>
            <a:xfrm>
              <a:off x="4952880" y="3644640"/>
              <a:ext cx="0" cy="4572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uadro de texto 18"/>
            <p:cNvSpPr/>
            <p:nvPr/>
          </p:nvSpPr>
          <p:spPr>
            <a:xfrm>
              <a:off x="5181480" y="455904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rmo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Cuadro de texto 19"/>
            <p:cNvSpPr/>
            <p:nvPr/>
          </p:nvSpPr>
          <p:spPr>
            <a:xfrm>
              <a:off x="5105520" y="36446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ina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ínea 20"/>
            <p:cNvSpPr/>
            <p:nvPr/>
          </p:nvSpPr>
          <p:spPr>
            <a:xfrm>
              <a:off x="4952880" y="4406760"/>
              <a:ext cx="0" cy="5335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Cuadro de texto 21"/>
            <p:cNvSpPr/>
            <p:nvPr/>
          </p:nvSpPr>
          <p:spPr>
            <a:xfrm>
              <a:off x="4191120" y="44830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1" lang="es-ES" sz="1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Grupo 28"/>
          <p:cNvGrpSpPr/>
          <p:nvPr/>
        </p:nvGrpSpPr>
        <p:grpSpPr>
          <a:xfrm>
            <a:off x="6705720" y="4749840"/>
            <a:ext cx="1744560" cy="1620720"/>
            <a:chOff x="6705720" y="4749840"/>
            <a:chExt cx="1744560" cy="1620720"/>
          </a:xfrm>
        </p:grpSpPr>
        <p:pic>
          <p:nvPicPr>
            <p:cNvPr id="949" name="Imagen 12" descr="sp8431"/>
            <p:cNvPicPr/>
            <p:nvPr/>
          </p:nvPicPr>
          <p:blipFill>
            <a:blip r:embed="rId2"/>
            <a:srcRect l="77517" t="0" r="0" b="47312"/>
            <a:stretch/>
          </p:blipFill>
          <p:spPr>
            <a:xfrm>
              <a:off x="6705720" y="4749840"/>
              <a:ext cx="1744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Cuadro de texto 23"/>
            <p:cNvSpPr/>
            <p:nvPr/>
          </p:nvSpPr>
          <p:spPr>
            <a:xfrm>
              <a:off x="6815160" y="6002280"/>
              <a:ext cx="76212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2" name="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F0FF-E38A-49C2-96E8-A3B1292AD15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1"/>
          <a:stretch/>
        </p:blipFill>
        <p:spPr>
          <a:xfrm>
            <a:off x="336600" y="1125360"/>
            <a:ext cx="86281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BA0-BEA2-4252-846B-F6833339728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2" descr="\\FANNY_2\Mis documentos\CLASES QUÍMICA BIOLOGICA 2011\Cuadro 4.jpg"/>
          <p:cNvPicPr/>
          <p:nvPr/>
        </p:nvPicPr>
        <p:blipFill>
          <a:blip r:embed="rId1"/>
          <a:stretch/>
        </p:blipFill>
        <p:spPr>
          <a:xfrm>
            <a:off x="324000" y="444600"/>
            <a:ext cx="85690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8D01-570E-4A57-8FC4-0D0A6AF13A81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2" descr="C:\Users\Fanny\Documents\CLASES QUÍMICA BIOLOGICA 2011\Cuadro 1.jpg"/>
          <p:cNvPicPr/>
          <p:nvPr/>
        </p:nvPicPr>
        <p:blipFill>
          <a:blip r:embed="rId1"/>
          <a:stretch/>
        </p:blipFill>
        <p:spPr>
          <a:xfrm>
            <a:off x="250920" y="177840"/>
            <a:ext cx="85690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165d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0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6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2B4B-E537-4293-A5AB-C455CB2BE14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2 CuadroTexto"/>
          <p:cNvSpPr/>
          <p:nvPr/>
        </p:nvSpPr>
        <p:spPr>
          <a:xfrm>
            <a:off x="1464840" y="54936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ESFINGOMIE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3 CuadroTexto"/>
          <p:cNvSpPr/>
          <p:nvPr/>
        </p:nvSpPr>
        <p:spPr>
          <a:xfrm>
            <a:off x="711000" y="1366920"/>
            <a:ext cx="76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SERINA + PALMITOIL-CoA </a:t>
            </a:r>
            <a:r>
              <a:rPr b="1" lang="es-A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 ESFINGOS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Picture 2" descr=""/>
          <p:cNvPicPr/>
          <p:nvPr/>
        </p:nvPicPr>
        <p:blipFill>
          <a:blip r:embed="rId1"/>
          <a:stretch/>
        </p:blipFill>
        <p:spPr>
          <a:xfrm>
            <a:off x="325440" y="2492280"/>
            <a:ext cx="8451720" cy="403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6" descr=""/>
          <p:cNvPicPr/>
          <p:nvPr/>
        </p:nvPicPr>
        <p:blipFill>
          <a:blip r:embed="rId2"/>
          <a:stretch/>
        </p:blipFill>
        <p:spPr>
          <a:xfrm>
            <a:off x="343080" y="2479680"/>
            <a:ext cx="84898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8391-D9C6-4564-AFBD-F9B22541A390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4" name="Picture 2" descr=""/>
          <p:cNvPicPr/>
          <p:nvPr/>
        </p:nvPicPr>
        <p:blipFill>
          <a:blip r:embed="rId1"/>
          <a:stretch/>
        </p:blipFill>
        <p:spPr>
          <a:xfrm>
            <a:off x="503280" y="1773360"/>
            <a:ext cx="8318520" cy="3384360"/>
          </a:xfrm>
          <a:prstGeom prst="rect">
            <a:avLst/>
          </a:prstGeom>
          <a:ln w="0">
            <a:noFill/>
          </a:ln>
        </p:spPr>
      </p:pic>
      <p:sp>
        <p:nvSpPr>
          <p:cNvPr id="965" name="2 CuadroTexto"/>
          <p:cNvSpPr/>
          <p:nvPr/>
        </p:nvSpPr>
        <p:spPr>
          <a:xfrm>
            <a:off x="1665720" y="611280"/>
            <a:ext cx="59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"/>
                <a:ea typeface="Arial"/>
              </a:rPr>
              <a:t>BIOSÍNTESIS DE CEREBRÓS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3 CuadroTexto"/>
          <p:cNvSpPr/>
          <p:nvPr/>
        </p:nvSpPr>
        <p:spPr>
          <a:xfrm>
            <a:off x="2253960" y="522288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LIC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  <a:ea typeface="Arial"/>
              </a:rPr>
              <a:t>GALACTOSIL- CEREBRÓS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D5FF-E79C-4A06-8EAE-E550C880C85B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8" name="Picture 2" descr="\\FANNY_2\Mis documentos\CLASES QUÍMICA BIOLOGICA 2011\Cuadro 3.jpg"/>
          <p:cNvPicPr/>
          <p:nvPr/>
        </p:nvPicPr>
        <p:blipFill>
          <a:blip r:embed="rId1"/>
          <a:stretch/>
        </p:blipFill>
        <p:spPr>
          <a:xfrm>
            <a:off x="250920" y="331920"/>
            <a:ext cx="8642160" cy="6357960"/>
          </a:xfrm>
          <a:prstGeom prst="rect">
            <a:avLst/>
          </a:prstGeom>
          <a:ln w="0">
            <a:noFill/>
          </a:ln>
        </p:spPr>
      </p:pic>
      <p:sp>
        <p:nvSpPr>
          <p:cNvPr id="969" name="1 CuadroTexto"/>
          <p:cNvSpPr/>
          <p:nvPr/>
        </p:nvSpPr>
        <p:spPr>
          <a:xfrm>
            <a:off x="3595680" y="5261040"/>
            <a:ext cx="15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EREBRÓS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2 CuadroTexto"/>
          <p:cNvSpPr/>
          <p:nvPr/>
        </p:nvSpPr>
        <p:spPr>
          <a:xfrm>
            <a:off x="7016400" y="38419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N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3 CuadroTexto"/>
          <p:cNvSpPr/>
          <p:nvPr/>
        </p:nvSpPr>
        <p:spPr>
          <a:xfrm>
            <a:off x="684360" y="5762520"/>
            <a:ext cx="50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ensamble de las cadenas de oligosacáridos tiene lugar en el complejo de Gol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 Narrow"/>
              </a:rPr>
              <a:t>EICOSANOIDE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rostaglandinas, Tromboxanos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 y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Leucotrie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Derivan del ácido araquidónico: EICOSANOICO</a:t>
            </a:r>
            <a:r>
              <a:rPr b="1" lang="es-E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 AG poliinsaturado de 20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hormonas locales  de efecto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articipan en procesos inflama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Actúan como vasoconstrictores y poseen acción agregante de plaque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Poseen un rápido recambio metabó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24EE-4D86-486A-B297-C2B11F9F3AE8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5" name="Picture 3" descr=""/>
          <p:cNvPicPr/>
          <p:nvPr/>
        </p:nvPicPr>
        <p:blipFill>
          <a:blip r:embed="rId1"/>
          <a:stretch/>
        </p:blipFill>
        <p:spPr>
          <a:xfrm>
            <a:off x="22320" y="260280"/>
            <a:ext cx="5508360" cy="6513480"/>
          </a:xfrm>
          <a:prstGeom prst="rect">
            <a:avLst/>
          </a:prstGeom>
          <a:ln w="0">
            <a:noFill/>
          </a:ln>
        </p:spPr>
      </p:pic>
      <p:sp>
        <p:nvSpPr>
          <p:cNvPr id="976" name="2 CuadroTexto"/>
          <p:cNvSpPr/>
          <p:nvPr/>
        </p:nvSpPr>
        <p:spPr>
          <a:xfrm>
            <a:off x="5530680" y="649440"/>
            <a:ext cx="339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s PG son hidroxiácidos insaturados con un anillo ciclopent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inestables en condiciones fisiológicas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Rápidamente se convierten en productos ina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Ácido araquidónico no se encuentra libre en la célula. Está como fosfolípido  de membr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r esta razón, el paso inicial es la hidrólisis de glicerofosfolípido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F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5 Elipse"/>
          <p:cNvSpPr/>
          <p:nvPr/>
        </p:nvSpPr>
        <p:spPr>
          <a:xfrm>
            <a:off x="468360" y="1033560"/>
            <a:ext cx="1295280" cy="600120"/>
          </a:xfrm>
          <a:prstGeom prst="ellipse">
            <a:avLst/>
          </a:prstGeom>
          <a:noFill/>
          <a:ln w="9360">
            <a:solidFill>
              <a:srgbClr val="ff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8 Estrella de 5 puntas"/>
          <p:cNvSpPr/>
          <p:nvPr/>
        </p:nvSpPr>
        <p:spPr>
          <a:xfrm>
            <a:off x="3348000" y="590400"/>
            <a:ext cx="216000" cy="317520"/>
          </a:xfrm>
          <a:custGeom>
            <a:avLst/>
            <a:gdLst/>
            <a:ahLst/>
            <a:rect l="l" t="t" r="r" b="b"/>
            <a:pathLst>
              <a:path w="215900" h="317500">
                <a:moveTo>
                  <a:pt x="0" y="121274"/>
                </a:moveTo>
                <a:lnTo>
                  <a:pt x="82467" y="121275"/>
                </a:lnTo>
                <a:lnTo>
                  <a:pt x="107950" y="0"/>
                </a:lnTo>
                <a:lnTo>
                  <a:pt x="133433" y="121275"/>
                </a:lnTo>
                <a:lnTo>
                  <a:pt x="215900" y="121274"/>
                </a:lnTo>
                <a:lnTo>
                  <a:pt x="149182" y="196225"/>
                </a:lnTo>
                <a:lnTo>
                  <a:pt x="174667" y="317499"/>
                </a:lnTo>
                <a:lnTo>
                  <a:pt x="107950" y="242547"/>
                </a:lnTo>
                <a:lnTo>
                  <a:pt x="41233" y="317499"/>
                </a:lnTo>
                <a:lnTo>
                  <a:pt x="66718" y="196225"/>
                </a:lnTo>
                <a:lnTo>
                  <a:pt x="0" y="121274"/>
                </a:lnTo>
                <a:close/>
              </a:path>
            </a:pathLst>
          </a:custGeom>
          <a:solidFill>
            <a:srgbClr val="ff1a1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4" descr=""/>
          <p:cNvPicPr/>
          <p:nvPr/>
        </p:nvPicPr>
        <p:blipFill>
          <a:blip r:embed="rId2"/>
          <a:stretch/>
        </p:blipFill>
        <p:spPr>
          <a:xfrm>
            <a:off x="2124000" y="1716120"/>
            <a:ext cx="255600" cy="371520"/>
          </a:xfrm>
          <a:prstGeom prst="rect">
            <a:avLst/>
          </a:prstGeom>
          <a:ln w="0">
            <a:noFill/>
          </a:ln>
        </p:spPr>
      </p:pic>
      <p:sp>
        <p:nvSpPr>
          <p:cNvPr id="980" name="9 CuadroTexto"/>
          <p:cNvSpPr/>
          <p:nvPr/>
        </p:nvSpPr>
        <p:spPr>
          <a:xfrm>
            <a:off x="4071240" y="103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10 CuadroTexto"/>
          <p:cNvSpPr/>
          <p:nvPr/>
        </p:nvSpPr>
        <p:spPr>
          <a:xfrm>
            <a:off x="4331880" y="1577880"/>
            <a:ext cx="1003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c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1</a:t>
            </a: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800000"/>
                </a:solidFill>
                <a:latin typeface="Arial"/>
                <a:ea typeface="Arial"/>
              </a:rPr>
              <a:t>i COX</a:t>
            </a:r>
            <a:r>
              <a:rPr b="1" lang="es-AR" sz="18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2" name="12 Conector recto de flecha"/>
          <p:cNvCxnSpPr/>
          <p:nvPr/>
        </p:nvCxnSpPr>
        <p:spPr>
          <a:xfrm flipH="1" flipV="1">
            <a:off x="3563280" y="1901160"/>
            <a:ext cx="562680" cy="10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3" name="3 CuadroTexto"/>
          <p:cNvSpPr/>
          <p:nvPr/>
        </p:nvSpPr>
        <p:spPr>
          <a:xfrm>
            <a:off x="3015720" y="27874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Peroxid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4 Rectángulo"/>
          <p:cNvSpPr/>
          <p:nvPr/>
        </p:nvSpPr>
        <p:spPr>
          <a:xfrm>
            <a:off x="753840" y="175896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Cicl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1 CuadroTexto"/>
          <p:cNvSpPr/>
          <p:nvPr/>
        </p:nvSpPr>
        <p:spPr>
          <a:xfrm>
            <a:off x="4183200" y="224640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(Proces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00"/>
                </a:solidFill>
                <a:latin typeface="Arial"/>
                <a:ea typeface="Arial"/>
              </a:rPr>
              <a:t>Inflamatori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6" name="4 Conector recto de flecha"/>
          <p:cNvCxnSpPr>
            <a:stCxn id="981" idx="3"/>
          </p:cNvCxnSpPr>
          <p:nvPr/>
        </p:nvCxnSpPr>
        <p:spPr>
          <a:xfrm>
            <a:off x="5346360" y="1901520"/>
            <a:ext cx="1080" cy="3452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987" name="7 Elipse"/>
          <p:cNvSpPr/>
          <p:nvPr/>
        </p:nvSpPr>
        <p:spPr>
          <a:xfrm>
            <a:off x="468360" y="3789360"/>
            <a:ext cx="431640" cy="50328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8" name="Picture 13" descr=""/>
          <p:cNvPicPr/>
          <p:nvPr/>
        </p:nvPicPr>
        <p:blipFill>
          <a:blip r:embed="rId3"/>
          <a:stretch/>
        </p:blipFill>
        <p:spPr>
          <a:xfrm>
            <a:off x="438120" y="5164200"/>
            <a:ext cx="444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F7F2-3968-4081-BC2D-8E4EE810324F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0" name="Picture 2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545320" cy="6408720"/>
          </a:xfrm>
          <a:prstGeom prst="rect">
            <a:avLst/>
          </a:prstGeom>
          <a:ln w="0">
            <a:noFill/>
          </a:ln>
        </p:spPr>
      </p:pic>
      <p:sp>
        <p:nvSpPr>
          <p:cNvPr id="991" name="1 CuadroTexto"/>
          <p:cNvSpPr/>
          <p:nvPr/>
        </p:nvSpPr>
        <p:spPr>
          <a:xfrm>
            <a:off x="4003200" y="162864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fosfatidilcol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1 Rectángulo"/>
          <p:cNvSpPr/>
          <p:nvPr/>
        </p:nvSpPr>
        <p:spPr>
          <a:xfrm>
            <a:off x="5076720" y="3171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c COX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i COX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10A8-742E-450E-AED5-843F77D78FD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7640" y="50760"/>
            <a:ext cx="5435280" cy="6775560"/>
          </a:xfrm>
          <a:prstGeom prst="rect">
            <a:avLst/>
          </a:prstGeom>
          <a:ln w="0">
            <a:noFill/>
          </a:ln>
        </p:spPr>
      </p:pic>
      <p:sp>
        <p:nvSpPr>
          <p:cNvPr id="995" name="2 CuadroTexto"/>
          <p:cNvSpPr/>
          <p:nvPr/>
        </p:nvSpPr>
        <p:spPr>
          <a:xfrm>
            <a:off x="6012000" y="0"/>
            <a:ext cx="3132000" cy="74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TA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ES UN EPÓXIDO INE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LA MEZCLA DE LTC4 Y LTD4 CONSTITUYE L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SUSTANCIA DE REACCIÓN LENTA DE ANAFILAX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(SRS-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TICIPA EN REACCIONES INMUNOLÓG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3 CuadroTexto"/>
          <p:cNvSpPr/>
          <p:nvPr/>
        </p:nvSpPr>
        <p:spPr>
          <a:xfrm>
            <a:off x="227520" y="27082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600000"/>
                </a:solidFill>
                <a:latin typeface="Arial"/>
                <a:ea typeface="Arial"/>
              </a:rPr>
              <a:t>Hidrol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4 Elipse"/>
          <p:cNvSpPr/>
          <p:nvPr/>
        </p:nvSpPr>
        <p:spPr>
          <a:xfrm>
            <a:off x="2735280" y="1325520"/>
            <a:ext cx="1368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6 Rectángulo"/>
          <p:cNvSpPr/>
          <p:nvPr/>
        </p:nvSpPr>
        <p:spPr>
          <a:xfrm>
            <a:off x="2700360" y="1341360"/>
            <a:ext cx="71928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5 CuadroTexto"/>
          <p:cNvSpPr/>
          <p:nvPr/>
        </p:nvSpPr>
        <p:spPr>
          <a:xfrm>
            <a:off x="2839680" y="1325520"/>
            <a:ext cx="116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600000"/>
                </a:solidFill>
                <a:latin typeface="Arial"/>
                <a:ea typeface="Arial"/>
              </a:rPr>
              <a:t>Lipooxigena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1 CuadroTexto"/>
          <p:cNvSpPr/>
          <p:nvPr/>
        </p:nvSpPr>
        <p:spPr>
          <a:xfrm>
            <a:off x="2926800" y="3300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8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CA0-4AAA-479A-B671-58BC339AE0EE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2 CuadroTexto"/>
          <p:cNvSpPr/>
          <p:nvPr/>
        </p:nvSpPr>
        <p:spPr>
          <a:xfrm>
            <a:off x="324000" y="144360"/>
            <a:ext cx="820872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APEL FUNCIONAL DE LOS EICOSANO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GLANDINAS (PG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Contracción del músculo liso en útero y tracto gastrointesti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ipólisis en tejido adip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Inhibición de la secreción de HCl en estóma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sustancias ubicuas, se producen en todas las células, excepto en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TROMBOXANOS (TX) 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on agregantes de plaquetas y vasoconstric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as plaqu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ROSTACICLINA (PGI</a:t>
            </a:r>
            <a:r>
              <a:rPr b="1" lang="es-AR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Es antiagregante y vasodilatad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 en endotelio de vasos sanguíneo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EUCOTRIENOS (LT) </a:t>
            </a:r>
            <a:r>
              <a:rPr b="1" lang="es-AR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oderosos constrictores de la musculatura lisa de bronqu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Mediadores en procesos inflamatorios e inmunológicos como alerg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Se sintetizan en leucoci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Actúan cerca del sitio de sínte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4B52-DACF-4960-A34A-18E9115F95F7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2 CuadroTexto"/>
          <p:cNvSpPr/>
          <p:nvPr/>
        </p:nvSpPr>
        <p:spPr>
          <a:xfrm>
            <a:off x="468360" y="260280"/>
            <a:ext cx="8136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aspirina, indometacina y otros compuestos utilizados como antiinflamatorios no esteroideos (AINE)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bloquean la síntesis  de prostaglandinas por su acción  sobre ambas ciclo- oxigena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os fármacos, además de su acción antiinflamatoria tienen efectos colaterales no deseables, como úlceras o hemorragias gastrointesti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e han diseñado fármacos que inhiben selectivamente a la COX</a:t>
            </a:r>
            <a:r>
              <a:rPr b="1" lang="es-AR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, enzima que se relaciona directamente con la síntesis de PG en los sitios de inflamación. No hay efectos colater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tros inhiben la fosfolipasa A </a:t>
            </a:r>
            <a:r>
              <a:rPr b="1" lang="es-A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 no hay síntesis de eicosano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La posibilidad de interferir farmacológicamente la producción de estas sustancias tiene gran interés mé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BB8C-B9FE-4B47-9618-833F6D4B85E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6" name="Picture 4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4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987B-E3D2-49D8-BC88-D0ED06BA835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833800" cy="6286680"/>
          </a:xfrm>
          <a:prstGeom prst="rect">
            <a:avLst/>
          </a:prstGeom>
          <a:ln w="0">
            <a:noFill/>
          </a:ln>
        </p:spPr>
      </p:pic>
      <p:sp>
        <p:nvSpPr>
          <p:cNvPr id="829" name="2 CuadroTexto"/>
          <p:cNvSpPr/>
          <p:nvPr/>
        </p:nvSpPr>
        <p:spPr>
          <a:xfrm>
            <a:off x="6443640" y="1628640"/>
            <a:ext cx="25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Las enzimas de la síntesis de FL se encuentran insertas en las membranas del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0B06-AF43-4272-9DFD-B31788BB8A3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2 Rectángulo"/>
          <p:cNvSpPr/>
          <p:nvPr/>
        </p:nvSpPr>
        <p:spPr>
          <a:xfrm>
            <a:off x="324000" y="404640"/>
            <a:ext cx="849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Fosfolí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Los fosfolípidos se encuentran presentes principalmente en las membranas biológicas, cumplen funciones vitales en la cél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Regulando la permeabilidad cel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Interviniendo en la solubilización de compuestos poco po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En el proceso de coagulación sangu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Formando parte de la vaina de mielina de neuronas y de partículas transportadoras de electr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000"/>
                </a:solidFill>
                <a:latin typeface="Arial Rounded MT Bold"/>
              </a:rPr>
              <a:t>Son lípidos compuestos por ésteres de ácidos grasos, fosfato y en general de una base nitrogen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ángulo 4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os Fosfolí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5"/>
          <p:cNvSpPr/>
          <p:nvPr/>
        </p:nvSpPr>
        <p:spPr>
          <a:xfrm>
            <a:off x="45720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abeza polar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fosfato + alcoh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Cola hidrófoba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ácidos grasos esenciales poliinsaturad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squeleto Básico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: Glicerol ó Esfingo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Imagen 6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835" name="Cuadro de texto 7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ínea 8"/>
          <p:cNvSpPr/>
          <p:nvPr/>
        </p:nvSpPr>
        <p:spPr>
          <a:xfrm flipH="1">
            <a:off x="4066920" y="3284640"/>
            <a:ext cx="649080" cy="504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Imagen 9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838" name="Cuadro de texto 10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fingos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ínea 11"/>
          <p:cNvSpPr/>
          <p:nvPr/>
        </p:nvSpPr>
        <p:spPr>
          <a:xfrm>
            <a:off x="6961320" y="3213000"/>
            <a:ext cx="431640" cy="6476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1 CuadroTexto"/>
          <p:cNvSpPr/>
          <p:nvPr/>
        </p:nvSpPr>
        <p:spPr>
          <a:xfrm>
            <a:off x="4943160" y="40464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mino alcoh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Ácido gra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ángulo 4"/>
          <p:cNvSpPr/>
          <p:nvPr/>
        </p:nvSpPr>
        <p:spPr>
          <a:xfrm>
            <a:off x="457200" y="274680"/>
            <a:ext cx="8002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Arial"/>
                <a:ea typeface="Arial"/>
              </a:rPr>
              <a:t>Glicerofosfolip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ángulo 5"/>
          <p:cNvSpPr/>
          <p:nvPr/>
        </p:nvSpPr>
        <p:spPr>
          <a:xfrm>
            <a:off x="39528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etanolam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co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se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inosit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Fosfatidilglic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ardiolip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Cuadro de texto 7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Cuadro de texto 8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Imagen 15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4662360" y="378936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846" name="Cuadro de texto 16"/>
          <p:cNvSpPr/>
          <p:nvPr/>
        </p:nvSpPr>
        <p:spPr>
          <a:xfrm>
            <a:off x="5100480" y="6276960"/>
            <a:ext cx="2737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sfatidilglice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Grupo 17"/>
          <p:cNvGrpSpPr/>
          <p:nvPr/>
        </p:nvGrpSpPr>
        <p:grpSpPr>
          <a:xfrm>
            <a:off x="4932360" y="2781360"/>
            <a:ext cx="2592360" cy="822960"/>
            <a:chOff x="4932360" y="2781360"/>
            <a:chExt cx="2592360" cy="822960"/>
          </a:xfrm>
        </p:grpSpPr>
        <p:sp>
          <p:nvSpPr>
            <p:cNvPr id="848" name="Cuadro de texto 18"/>
            <p:cNvSpPr/>
            <p:nvPr/>
          </p:nvSpPr>
          <p:spPr>
            <a:xfrm>
              <a:off x="4932360" y="2781360"/>
              <a:ext cx="2592360" cy="82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-CH-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ínea 19"/>
            <p:cNvSpPr/>
            <p:nvPr/>
          </p:nvSpPr>
          <p:spPr>
            <a:xfrm>
              <a:off x="6372360" y="3068640"/>
              <a:ext cx="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1 CuadroTexto"/>
          <p:cNvSpPr/>
          <p:nvPr/>
        </p:nvSpPr>
        <p:spPr>
          <a:xfrm>
            <a:off x="7453440" y="213372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B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Arial"/>
                <a:ea typeface="Arial"/>
              </a:rPr>
              <a:t>Nitrogen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D411-53DF-4F3B-BB25-13F632185A6D}" type="slidenum"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468360" y="297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ángulo 4"/>
          <p:cNvSpPr/>
          <p:nvPr/>
        </p:nvSpPr>
        <p:spPr>
          <a:xfrm>
            <a:off x="243000" y="274680"/>
            <a:ext cx="822960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ESTRATEGIAS DIFERENTES PARA LA BIOSINTESIS DE FOSFOGLIC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ángulo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ón del esqueleto hidrof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ivacion de la cabeza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Cuadro de texto 6"/>
          <p:cNvSpPr/>
          <p:nvPr/>
        </p:nvSpPr>
        <p:spPr>
          <a:xfrm>
            <a:off x="684360" y="3429000"/>
            <a:ext cx="8064360" cy="8254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ido fosfatídico +  CTP         CDP- diacilglicerol  + 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ínea 7"/>
          <p:cNvSpPr/>
          <p:nvPr/>
        </p:nvSpPr>
        <p:spPr>
          <a:xfrm>
            <a:off x="4357800" y="3645000"/>
            <a:ext cx="64764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Cuadro de texto 8"/>
          <p:cNvSpPr/>
          <p:nvPr/>
        </p:nvSpPr>
        <p:spPr>
          <a:xfrm rot="20962200">
            <a:off x="4354920" y="2421000"/>
            <a:ext cx="280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CDP-ácido fosfatídico-citidiltransfe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8" name="Grupo 9"/>
          <p:cNvGrpSpPr/>
          <p:nvPr/>
        </p:nvGrpSpPr>
        <p:grpSpPr>
          <a:xfrm>
            <a:off x="755640" y="5589720"/>
            <a:ext cx="7920000" cy="459720"/>
            <a:chOff x="755640" y="5589720"/>
            <a:chExt cx="7920000" cy="459720"/>
          </a:xfrm>
        </p:grpSpPr>
        <p:sp>
          <p:nvSpPr>
            <p:cNvPr id="859" name="Cuadro de texto 10"/>
            <p:cNvSpPr/>
            <p:nvPr/>
          </p:nvSpPr>
          <p:spPr>
            <a:xfrm>
              <a:off x="755640" y="558972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ínea 11"/>
            <p:cNvSpPr/>
            <p:nvPr/>
          </p:nvSpPr>
          <p:spPr>
            <a:xfrm>
              <a:off x="4284720" y="5878440"/>
              <a:ext cx="64764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12"/>
          <p:cNvSpPr/>
          <p:nvPr/>
        </p:nvSpPr>
        <p:spPr>
          <a:xfrm>
            <a:off x="5651640" y="602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Elipse 13"/>
          <p:cNvSpPr/>
          <p:nvPr/>
        </p:nvSpPr>
        <p:spPr>
          <a:xfrm>
            <a:off x="5580000" y="6310440"/>
            <a:ext cx="2664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1,2 Diacil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1 CuadroTexto"/>
          <p:cNvSpPr/>
          <p:nvPr/>
        </p:nvSpPr>
        <p:spPr>
          <a:xfrm>
            <a:off x="3112200" y="39639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e5e500"/>
                </a:solidFill>
                <a:latin typeface="Arial"/>
              </a:rPr>
              <a:t>Citidina tri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3:31:25Z</dcterms:created>
  <dc:creator>Fanny</dc:creator>
  <dc:description/>
  <dc:language>en-US</dc:language>
  <cp:lastModifiedBy>Fanny Zirulnik</cp:lastModifiedBy>
  <cp:lastPrinted>2012-05-07T21:30:02Z</cp:lastPrinted>
  <dcterms:modified xsi:type="dcterms:W3CDTF">2017-05-08T21:56:04Z</dcterms:modified>
  <cp:revision>43</cp:revision>
  <dc:subject/>
  <dc:title>Presentación de PowerPoint</dc:title>
</cp:coreProperties>
</file>